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3A8-E932-4F7A-B2B0-00F3FAAF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759-23A8-44A3-85F9-FFDD8E9A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2E2-1B57-4251-BEB1-2D4C2CD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5E6-92BA-4BDC-AAAB-95DB79DF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E60-77F4-431E-806A-40D47DF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204-1142-4CC7-9978-A559009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99B-0279-433C-9E5F-50C58E9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61A-A13B-431F-B68F-3F46AE3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96D-4AA3-49A4-8586-ECD4248D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B4A-7FCC-4C64-B35C-DD5D059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188-EF25-448A-9D60-36896E3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224-BB25-4EBE-9285-FBFD829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FB03-4156-40A2-948D-FC17114C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petitpaume.com/restaurant-lyon-1.htm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 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r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better/worst than countr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667240" cy="264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3068640"/>
            <a:ext cx="142920" cy="144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1628640"/>
            <a:ext cx="124308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38104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1714680" cy="273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059280" y="162864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651640" y="2133720"/>
            <a:ext cx="16668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2800" y="6237360"/>
            <a:ext cx="35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etitpaume.com/restaurant-lyon-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à Ly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en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Ly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st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vil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ituée dans l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sud-e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 la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à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450km de Par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Lyon est la deuxième ville de Franc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lle a 465.300 habitants.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yon est au bord de deux rivières.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27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J’adore ma ville, </a:t>
            </a:r>
            <a:r>
              <a:rPr b="1" lang="en-GB" sz="3200" spc="-1" strike="noStrike">
                <a:solidFill>
                  <a:srgbClr val="008000"/>
                </a:solidFill>
                <a:latin typeface="Comic Sans MS"/>
              </a:rPr>
              <a:t>car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 elle est magnif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(give an opinion and a reason) –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(36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yon est un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and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ll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ndustriel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ourist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istor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’est auss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apitale gastronomique de la Fra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54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ns ma vill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l y 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beaucoup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’immeubles,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il n’y a pa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 maisons individu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uss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ans ma ville, il y a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belle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 piscin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grand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 stad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de foo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une église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Comic Sans MS"/>
              </a:rPr>
              <a:t>magnifiq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(91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2:26:37Z</dcterms:created>
  <dc:creator>Caroline Cassels</dc:creator>
  <dc:description/>
  <dc:language>en-US</dc:language>
  <cp:lastModifiedBy>Caroline Cassels</cp:lastModifiedBy>
  <dcterms:modified xsi:type="dcterms:W3CDTF">2007-03-11T13:37:19Z</dcterms:modified>
  <cp:revision>9</cp:revision>
  <dc:subject/>
  <dc:title>Ma ville</dc:title>
</cp:coreProperties>
</file>